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6411960"/>
            <a:ext cx="30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0360" y="395280"/>
            <a:ext cx="853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777777"/>
                </a:solidFill>
                <a:latin typeface="Arial Narrow"/>
              </a:rPr>
              <a:t>Dematerializzazione Atti di Liquid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411960"/>
            <a:ext cx="93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A7111-9591-40BD-99CC-A4637764CF1B}" type="slidenum">
              <a:rPr b="0" lang="it-IT" sz="1400" spc="-1" strike="noStrike">
                <a:solidFill>
                  <a:srgbClr val="4d4d4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46200"/>
            <a:ext cx="821844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172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8720" y="504720"/>
            <a:ext cx="237492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458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Dematerializzazione </a:t>
            </a:r>
            <a:br>
              <a:rPr sz="4500"/>
            </a:b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Atti di Liquidazione</a:t>
            </a:r>
            <a:endParaRPr b="0" lang="en-US" sz="45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0650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utomatizzazione processo di validazione e 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rchiviazione degli Atti di Liquidazione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0115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Nuova Applicazione Web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(integrata in FLUX)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di tutte le informazioni a corredo di ogni singola fase del processo, passaggio di stato dell'Atto di Liquidazione, integrazione con servizi ACTA, gestione delle firme e valida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CTA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documentale per il deposito del documento nell’apposito fascicolo amministrativo contabile generato nel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ori coinvol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Gli attori coinvolti dalla nuova gestione dell'atto di liquidazione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Liquidator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ettore/Dirigente Responsabil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Dele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igente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Il nuovo process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Creazione dell’ Atto di Liquid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cesso di validazione, firma e archivia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spet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95280"/>
            <a:ext cx="828036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a generazione dell’Atto avviene come di consueto attraverso le apposite funzioni del 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sistema contabile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Nuove implementazioni su sistema conta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generazione e  trasferimento in formato .pdf dell’ Atto di Liquidazione al gestore del processo di validazione (con  versionamento del docu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roduzione casella “dati sensibili” per la corretta definizione della visibilità del documento dal sistema di archiviazione del documento (AC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43120"/>
            <a:ext cx="2880000" cy="50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Una volta inserito l’Atto di liquidazione, accedendo in modifica al medesimo è possibile effettu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l’avvio del processo di validazione (FLU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il trasferimento e l’archiviazione del documento sul sistema di archiviazione (ACT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5761080" cy="4151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6227640" y="2994120"/>
            <a:ext cx="863640" cy="7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2781360"/>
            <a:ext cx="720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dei Processi (FLUX)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19280"/>
            <a:ext cx="802152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opo aver creato l'atto di liquidazione, l'utente accede al gestore dei processi per iniziare l’iter di valid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4830"/>
          <a:stretch/>
        </p:blipFill>
        <p:spPr>
          <a:xfrm>
            <a:off x="380880" y="2666880"/>
            <a:ext cx="843912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Attività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8080" y="190512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43828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12193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Riepilogo Dati 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Attività da svolgere sull’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Docum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il documento ed eventuali alleg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15328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1523520" y="26668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Iter Documen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l’iter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2362320" y="312408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Generalità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Obiettivi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er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676520"/>
            <a:ext cx="82803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del Settore Proponente pu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 Dirigente per la successiva fir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 Dirigente senza apporre una firma indicando obbligatoriamente una motiv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 – Documento Firma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3886200" y="1752480"/>
            <a:ext cx="3808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600200"/>
            <a:ext cx="8280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 o il 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la Ragioneria Delegata per le successive verif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direttamente alla Ragioneria Centrale (es. CO.CO.CO., stipendi) indicandone il tipo di pag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(sul Sistema Contabile) del documento. È obbligatorio indicare la modifica rich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nnull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84872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557360"/>
            <a:ext cx="844380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Delegata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pporre il visto sul documento ed inviarlo alla Ragioneria Centrale De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ed inviarlo comunque alla Ragioneria Centrale, motivando le ragioni per la mancata apposizione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e informazioni prese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a documentazione al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(o visto negativo) e restituire il documento al Settore Proponente motivando le ragioni per il rifiuto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modific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557360"/>
            <a:ext cx="828036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cedere con il pagamento dell'atto di liquidazione (con la gestione dei mandati e delle liquidazion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Delegata per la mancanza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porre al Dirigente della Ragioneria il rifiuto de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documentazione allegata a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i Mandati –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557360"/>
            <a:ext cx="828036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urante questa fase la Ragioneria Centrale emette i mandati sul Sistema Contabile 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verifica dei mandati emessi (i mandati emessi sono trasmessi al sistema del MI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portare il documento alla fase precedente (Attività Ragioneria) per poterlo rifiutare o richiederne delle modifiche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ha come obiettivo 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dematerializzazione degli Atti di Liqu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degli Atti da Elenco della Regione Piem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consente la gestione del processo di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val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trasmiss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ice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rchivi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a parte dei Settori Proponenti, delle Ragionerie Delegate e della Ragioneria Cent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557360"/>
            <a:ext cx="828036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’ possibile visualizz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e liquidazioni eme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80773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0556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8229600" cy="21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4419720"/>
            <a:ext cx="30456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5960" y="19051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90512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8229600" cy="3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889280"/>
            <a:ext cx="828036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gli addetti della Ragioneria Centrale abilitati alla verifica e archiviazione dei documenti pos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d 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 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76520"/>
            <a:ext cx="8305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’archivista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rchivi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elenco de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iter completo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773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001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proprio Direttore/Dirigente Responsabile l’invio del documento direttamente in Ragioneria Centrale. È obbligatorio indicarne la motiv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/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 e completare la richiesta di invio del documento direttamente in Ragioneria Centrale ed inviar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fiutare la richiesta di invio del documento direttamente in Ragioneria Centrale e restituire il documento al Settore Pro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si affianca al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gestione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egli Atti di Liquidazione e da Elenco, e la completa dal punto di vista documentale, consentendo in una fase successiva, la possibile dismissione di funzionalità che oggi gestiscono l’iter dell’Atto di liquidazione sul sistema conta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sistema consente la tracciatura di tutti i passi del processo di validazione e l’archiviazione del documento in apposito fascicolo elettr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onsegnare la documentazione richiesta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consegnare la documentazione richiesta e restituire il documento al richiedente (Ragioneria Delegata o Ragioneria Centrale) indicando la motivazione per la non integrazione della document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egrare le informazioni richieste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integrare le informazioni richieste e restituire il documento al richiedente (Ragioneria Delegata o Ragioneria Centrale) indicando la motivazione per la non integrazione delle informazioni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28800"/>
            <a:ext cx="822960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igente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mpletare la richiesta di rifiuto che viene notificata, via @mail, al Dirigente/Direttore Responsabile ed al Funzionario Liquidatore; chiudere il processo e rifiutare il documento sul Sistema Conta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pingere la richiesta di rifiuto e restituire il documento alla  Ragioneria Centra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324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22766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5596"/>
                </a:solidFill>
                <a:latin typeface="Arial Narrow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068640"/>
            <a:ext cx="82296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440" y="6379920"/>
            <a:ext cx="33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 Narrow"/>
              </a:rPr>
              <a:t>© CSI-Piemonte – Tutti i diritti riser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r>
              <a:rPr b="0" lang="it-IT" sz="36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si è sviluppato in diverse f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dei processi cont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Questa fase ha consentito di analizzare l’attuale processo di liquidazione, di identificare attori e attività al fine di definire i requisiti  del nuovo processo e del nuov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archiv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 questa fase sono stati affrontati gli aspetti archivistici necessari alla definizione della modalità di validazione, firma e archiviazione dei documenti in coerenza con il titolario dell’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Interventi su sistema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Sul sistema contabile sono state realizzate funzionalità di integrazione con il sistema documentale al fine di trasmettere il documento PDF generato e i dati a corre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Sviluppo di nuova applicazion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E’ stata sviluppata una nuova applicazione web integrata nel gestore di processi FLUX e con la piattaforma documentale ACTA, al fine di gestire tutte le fasi del processo di liquidazione, di ogni Atto, dalla validazione al pagamento, sino all’alimentazione del relativo fascicolo elettro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7056360" cy="504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2360" y="1700280"/>
            <a:ext cx="15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all'attuale processo di liquidaz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360" y="170028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l processo di validazione dig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1044720"/>
            <a:ext cx="6408720" cy="53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utilizza i seguenti strum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Sistema di contabilità (Tarantella)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contabile e produzione documento Atto di liquidazione (e da elenc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FLUX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per la gestione dei proces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1:18:52Z</dcterms:created>
  <dc:creator>franz goria</dc:creator>
  <dc:description/>
  <dc:language>en-US</dc:language>
  <cp:lastModifiedBy>CSI Piemonte</cp:lastModifiedBy>
  <dcterms:modified xsi:type="dcterms:W3CDTF">2011-11-21T10:39:13Z</dcterms:modified>
  <cp:revision>68</cp:revision>
  <dc:subject/>
  <dc:title>Titolo</dc:title>
</cp:coreProperties>
</file>