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jpeg" ContentType="image/jpeg"/>
  <Override PartName="/ppt/media/image15.png" ContentType="image/png"/>
  <Override PartName="/ppt/media/image27.png" ContentType="image/png"/>
  <Override PartName="/ppt/media/image26.png" ContentType="image/png"/>
  <Override PartName="/ppt/media/image1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86920" y="968040"/>
            <a:ext cx="8520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24000" y="1584000"/>
            <a:ext cx="84852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24000" y="3991320"/>
            <a:ext cx="84852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86920" y="968040"/>
            <a:ext cx="8520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24000" y="1584000"/>
            <a:ext cx="4140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2080" y="1584000"/>
            <a:ext cx="4140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24000" y="3991320"/>
            <a:ext cx="4140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2080" y="3991320"/>
            <a:ext cx="4140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86920" y="968040"/>
            <a:ext cx="8520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24000" y="1584000"/>
            <a:ext cx="2732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93200" y="1584000"/>
            <a:ext cx="2732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2040" y="1584000"/>
            <a:ext cx="2732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24000" y="3991320"/>
            <a:ext cx="2732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93200" y="3991320"/>
            <a:ext cx="2732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2040" y="3991320"/>
            <a:ext cx="2732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6920" y="968040"/>
            <a:ext cx="8520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24000" y="1584000"/>
            <a:ext cx="848520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5f5f5f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6920" y="968040"/>
            <a:ext cx="8520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4000" y="1584000"/>
            <a:ext cx="84852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6920" y="968040"/>
            <a:ext cx="8520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4000" y="1584000"/>
            <a:ext cx="41407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2080" y="1584000"/>
            <a:ext cx="41407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6920" y="968040"/>
            <a:ext cx="8520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6920" y="968040"/>
            <a:ext cx="852012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5f5f5f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6920" y="968040"/>
            <a:ext cx="8520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4000" y="1584000"/>
            <a:ext cx="4140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080" y="1584000"/>
            <a:ext cx="41407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24000" y="3991320"/>
            <a:ext cx="4140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6920" y="968040"/>
            <a:ext cx="8520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24000" y="1584000"/>
            <a:ext cx="848520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5f5f5f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6920" y="968040"/>
            <a:ext cx="8520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4000" y="1584000"/>
            <a:ext cx="41407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080" y="1584000"/>
            <a:ext cx="4140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2080" y="3991320"/>
            <a:ext cx="4140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6920" y="968040"/>
            <a:ext cx="8520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4000" y="1584000"/>
            <a:ext cx="4140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2080" y="1584000"/>
            <a:ext cx="4140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24000" y="3991320"/>
            <a:ext cx="84852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6920" y="968040"/>
            <a:ext cx="8520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584000"/>
            <a:ext cx="84852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4000" y="3991320"/>
            <a:ext cx="84852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6920" y="968040"/>
            <a:ext cx="8520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4000" y="1584000"/>
            <a:ext cx="4140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2080" y="1584000"/>
            <a:ext cx="4140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24000" y="3991320"/>
            <a:ext cx="4140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2080" y="3991320"/>
            <a:ext cx="4140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6920" y="968040"/>
            <a:ext cx="8520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24000" y="1584000"/>
            <a:ext cx="2732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93200" y="1584000"/>
            <a:ext cx="2732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62040" y="1584000"/>
            <a:ext cx="2732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24000" y="3991320"/>
            <a:ext cx="2732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93200" y="3991320"/>
            <a:ext cx="2732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62040" y="3991320"/>
            <a:ext cx="2732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6920" y="968040"/>
            <a:ext cx="8520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4000" y="1584000"/>
            <a:ext cx="84852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86920" y="968040"/>
            <a:ext cx="8520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584000"/>
            <a:ext cx="41407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2080" y="1584000"/>
            <a:ext cx="41407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6920" y="968040"/>
            <a:ext cx="8520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86920" y="968040"/>
            <a:ext cx="852012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5f5f5f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86920" y="968040"/>
            <a:ext cx="8520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24000" y="1584000"/>
            <a:ext cx="4140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2080" y="1584000"/>
            <a:ext cx="41407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24000" y="3991320"/>
            <a:ext cx="4140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86920" y="968040"/>
            <a:ext cx="8520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24000" y="1584000"/>
            <a:ext cx="41407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2080" y="1584000"/>
            <a:ext cx="4140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2080" y="3991320"/>
            <a:ext cx="4140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86920" y="968040"/>
            <a:ext cx="8520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24000" y="1584000"/>
            <a:ext cx="4140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2080" y="1584000"/>
            <a:ext cx="4140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24000" y="3991320"/>
            <a:ext cx="84852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6920" y="968040"/>
            <a:ext cx="8520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5596"/>
                </a:solidFill>
                <a:latin typeface="Arial Narrow"/>
              </a:rPr>
              <a:t>Click to edit the title text format</a:t>
            </a: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24000" y="1584000"/>
            <a:ext cx="84852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"/>
          <p:cNvSpPr/>
          <p:nvPr/>
        </p:nvSpPr>
        <p:spPr>
          <a:xfrm>
            <a:off x="252360" y="6411960"/>
            <a:ext cx="3024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4d4d4d"/>
                </a:solidFill>
                <a:latin typeface="Arial Narrow"/>
              </a:rPr>
              <a:t>Torino, 24 Novembre/1-7 Dic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60360" y="395280"/>
            <a:ext cx="8531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777777"/>
                </a:solidFill>
                <a:latin typeface="Arial Narrow"/>
              </a:rPr>
              <a:t>Dematerializzazione Atti di Liquid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956720" y="6411960"/>
            <a:ext cx="934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E63C68-9099-4824-AA81-42EF171BB4FB}" type="slidenum">
              <a:rPr b="0" lang="it-IT" sz="1400" spc="-1" strike="noStrike">
                <a:solidFill>
                  <a:srgbClr val="4d4d4d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236000" y="179280"/>
            <a:ext cx="1706400" cy="614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1546200"/>
            <a:ext cx="821844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5596"/>
                </a:solidFill>
                <a:latin typeface="Arial Narrow"/>
              </a:rPr>
              <a:t>Click to edit the title text format</a:t>
            </a: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389560" y="3048120"/>
            <a:ext cx="3308400" cy="1440"/>
          </a:xfrm>
          <a:prstGeom prst="line">
            <a:avLst/>
          </a:prstGeom>
          <a:ln w="10800">
            <a:solidFill>
              <a:srgbClr val="cccc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6172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4d4d4d"/>
                </a:solidFill>
                <a:latin typeface="Arial Narrow"/>
              </a:rPr>
              <a:t>Torino, 24 Novembre/1-7 Dic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408720" y="504720"/>
            <a:ext cx="2374920" cy="855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45840"/>
            <a:ext cx="822960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500" spc="-1" strike="noStrike">
                <a:solidFill>
                  <a:srgbClr val="005596"/>
                </a:solidFill>
                <a:latin typeface="Arial Narrow"/>
              </a:rPr>
              <a:t>Dematerializzazione </a:t>
            </a:r>
            <a:br>
              <a:rPr sz="4500"/>
            </a:br>
            <a:r>
              <a:rPr b="0" lang="it-IT" sz="4500" spc="-1" strike="noStrike">
                <a:solidFill>
                  <a:srgbClr val="005596"/>
                </a:solidFill>
                <a:latin typeface="Arial Narrow"/>
              </a:rPr>
              <a:t>Atti di Liquidazione</a:t>
            </a:r>
            <a:endParaRPr b="0" lang="en-US" sz="4500" spc="-1" strike="noStrike">
              <a:solidFill>
                <a:srgbClr val="005596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3065040"/>
            <a:ext cx="8229600" cy="15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5f5f5f"/>
                </a:solidFill>
                <a:latin typeface="Arial Narrow"/>
              </a:rPr>
              <a:t>Automatizzazione processo di validazione e </a:t>
            </a:r>
            <a:endParaRPr b="0" lang="en-US" sz="2800" spc="-1" strike="noStrike">
              <a:solidFill>
                <a:srgbClr val="5f5f5f"/>
              </a:solidFill>
              <a:latin typeface="Arial Narrow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5f5f5f"/>
                </a:solidFill>
                <a:latin typeface="Arial Narrow"/>
              </a:rPr>
              <a:t>archiviazione degli Atti di Liquidazione</a:t>
            </a:r>
            <a:endParaRPr b="0" lang="en-US" sz="2800" spc="-1" strike="noStrike">
              <a:solidFill>
                <a:srgbClr val="5f5f5f"/>
              </a:solidFill>
              <a:latin typeface="Arial Narrow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501156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5596"/>
                </a:solidFill>
                <a:latin typeface="Arial Narrow"/>
              </a:rPr>
              <a:t>M. Molino, I. Lusso, A. Marchis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Arial Narrow"/>
              </a:rPr>
              <a:t>Direzione Governo e Gestio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Arial Narrow"/>
              </a:rPr>
              <a:t>Centro di competenza Bilancio e programma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Strumenti</a:t>
            </a: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0920" y="1557360"/>
            <a:ext cx="849780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 Narrow"/>
              </a:rPr>
              <a:t>Nuova Applicazione Web</a:t>
            </a: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 (integrata in FLUX) </a:t>
            </a:r>
            <a:r>
              <a:rPr b="0" lang="it-IT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 gestione di tutte le informazioni a corredo di ogni singola fase del processo, passaggio di stato dell'Atto di Liquidazione, integrazione con servizi ACTA, gestione delle firme e validazion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 Narrow"/>
              </a:rPr>
              <a:t>ACTA</a:t>
            </a: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 piattaforma documentale per il deposito del documento nell’apposito fascicolo amministrativo contabile generato nel proces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Attori coinvol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0920" y="1557360"/>
            <a:ext cx="849780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286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Gli attori coinvolti dalla nuova gestione dell'atto di liquidazione son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-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Funzionario Liquidatore del Sett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-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Direttore/Dirigente Responsabile del Sett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-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Funzionario della Ragioneria Deleg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-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Funzionario della Ragioneria Centr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-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Dirigente della Ragioneria Centr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57200" y="1547640"/>
            <a:ext cx="82296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900" spc="-1" strike="noStrike">
                <a:solidFill>
                  <a:srgbClr val="005596"/>
                </a:solidFill>
                <a:latin typeface="Arial Narrow"/>
              </a:rPr>
              <a:t>Il nuovo processo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5280" y="3067200"/>
            <a:ext cx="8291520" cy="35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2236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5f5f5f"/>
                </a:solidFill>
                <a:latin typeface="Arial Narrow"/>
              </a:rPr>
              <a:t>Creazione dell’ Atto di Liquida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2236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5f5f5f"/>
                </a:solidFill>
                <a:latin typeface="Arial Narrow"/>
              </a:rPr>
              <a:t>Processo di validazione, firma e archiviazion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2236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5f5f5f"/>
                </a:solidFill>
                <a:latin typeface="Arial Narrow"/>
              </a:rPr>
              <a:t>Prospet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2236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2236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389560" y="3048120"/>
            <a:ext cx="3308400" cy="1440"/>
          </a:xfrm>
          <a:prstGeom prst="line">
            <a:avLst/>
          </a:prstGeom>
          <a:ln w="10800">
            <a:solidFill>
              <a:srgbClr val="cccc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7236000" y="179280"/>
            <a:ext cx="1706400" cy="61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Creazione dell’Atto di Liquidazione</a:t>
            </a: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1295280"/>
            <a:ext cx="8280360" cy="41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La generazione dell’Atto avviene come di consueto attraverso le apposite funzioni del </a:t>
            </a:r>
            <a:r>
              <a:rPr b="1" lang="it-IT" sz="2400" spc="-1" strike="noStrike">
                <a:solidFill>
                  <a:srgbClr val="000000"/>
                </a:solidFill>
                <a:latin typeface="Arial Narrow"/>
              </a:rPr>
              <a:t>sistema contabile</a:t>
            </a: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 Narrow"/>
              </a:rPr>
              <a:t>Nuove implementazioni su sistema contabi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generazione e  trasferimento in formato .pdf dell’ Atto di Liquidazione al gestore del processo di validazione (con  versionamento del documento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introduzione casella “dati sensibili” per la corretta definizione della visibilità del documento dal sistema di archiviazione del documento (ACTA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Creazione dell’Atto di Liquidazione</a:t>
            </a: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9280" y="1743120"/>
            <a:ext cx="2880000" cy="50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 Narrow"/>
              </a:rPr>
              <a:t>Una volta inserito l’Atto di liquidazione, accedendo in modifica al medesimo è possibile effettuare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 Narrow"/>
              </a:rPr>
              <a:t>l’avvio del processo di validazione (FLUX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it-IT" sz="2300" spc="-1" strike="noStrike">
                <a:solidFill>
                  <a:srgbClr val="000000"/>
                </a:solidFill>
                <a:latin typeface="Arial Narrow"/>
              </a:rPr>
              <a:t>il trasferimento e l’archiviazione del documento sul sistema di archiviazione (ACTA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132000" y="1628640"/>
            <a:ext cx="5761080" cy="41515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 flipV="1">
            <a:off x="6227640" y="2994120"/>
            <a:ext cx="863640" cy="77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164360" y="2781360"/>
            <a:ext cx="720720" cy="360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Gestione dei Processi (FLUX)</a:t>
            </a: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60360" y="1619280"/>
            <a:ext cx="8021520" cy="40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Dopo aver creato l'atto di liquidazione, l'utente accede al gestore dei processi per iniziare l’iter di validazi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4830"/>
          <a:stretch/>
        </p:blipFill>
        <p:spPr>
          <a:xfrm>
            <a:off x="380880" y="2666880"/>
            <a:ext cx="8439120" cy="342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Gestione Attività</a:t>
            </a: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7620120" cy="4572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838080" y="1905120"/>
            <a:ext cx="533520" cy="380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43000" y="2438280"/>
            <a:ext cx="304920" cy="152424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250"/>
                </a:lnTo>
                <a:cubicBezTo>
                  <a:pt x="10800" y="9150"/>
                  <a:pt x="5400" y="10050"/>
                  <a:pt x="0" y="10050"/>
                </a:cubicBezTo>
                <a:cubicBezTo>
                  <a:pt x="5400" y="10050"/>
                  <a:pt x="10800" y="10950"/>
                  <a:pt x="10800" y="1185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43000" y="3962520"/>
            <a:ext cx="304920" cy="2057400"/>
          </a:xfrm>
          <a:custGeom>
            <a:avLst/>
            <a:gdLst>
              <a:gd name="textAreaLeft" fmla="*/ 194760 w 304920"/>
              <a:gd name="textAreaRight" fmla="*/ 305280 w 30492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250"/>
                </a:lnTo>
                <a:cubicBezTo>
                  <a:pt x="10800" y="9150"/>
                  <a:pt x="5400" y="10050"/>
                  <a:pt x="0" y="10050"/>
                </a:cubicBezTo>
                <a:cubicBezTo>
                  <a:pt x="5400" y="10050"/>
                  <a:pt x="10800" y="10950"/>
                  <a:pt x="10800" y="1185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52280" y="1600200"/>
            <a:ext cx="1219320" cy="64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Narrow"/>
              </a:rPr>
              <a:t>Riepilogo Dati At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Narrow"/>
              </a:rPr>
              <a:t>Attività da svolgere sull’At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Visualizzazione Documen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5280" y="1295280"/>
            <a:ext cx="8280360" cy="13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È possibile consultare il documento ed eventuali allega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33520" y="2514600"/>
            <a:ext cx="8153280" cy="28954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 flipH="1">
            <a:off x="1523520" y="2666880"/>
            <a:ext cx="30492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Visualizzazione Iter Documento</a:t>
            </a: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5280" y="1295280"/>
            <a:ext cx="8280360" cy="13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È possibile consultare l’iter del docu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57200" y="2362320"/>
            <a:ext cx="8305920" cy="3375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 flipH="1">
            <a:off x="2362320" y="3124080"/>
            <a:ext cx="30456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Firma Liquidatore</a:t>
            </a: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1676520"/>
            <a:ext cx="8280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8382240" cy="38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57200" y="1547640"/>
            <a:ext cx="82296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900" spc="-1" strike="noStrike">
                <a:solidFill>
                  <a:srgbClr val="005596"/>
                </a:solidFill>
                <a:latin typeface="Arial Narrow"/>
              </a:rPr>
              <a:t>Generalità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3067200"/>
            <a:ext cx="8291520" cy="35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2236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5f5f5f"/>
                </a:solidFill>
                <a:latin typeface="Arial Narrow"/>
              </a:rPr>
              <a:t>Obiettivi del proget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2236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5f5f5f"/>
                </a:solidFill>
                <a:latin typeface="Arial Narrow"/>
              </a:rPr>
              <a:t>Perco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2236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5f5f5f"/>
                </a:solidFill>
                <a:latin typeface="Arial Narrow"/>
              </a:rPr>
              <a:t>Strume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2236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2236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389560" y="3048120"/>
            <a:ext cx="3308400" cy="1440"/>
          </a:xfrm>
          <a:prstGeom prst="line">
            <a:avLst/>
          </a:prstGeom>
          <a:ln w="10800">
            <a:solidFill>
              <a:srgbClr val="cccc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7236000" y="179280"/>
            <a:ext cx="1706400" cy="61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Firma Liquidatore</a:t>
            </a: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5280" y="1676520"/>
            <a:ext cx="8280360" cy="51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Il Funzionario Liquidatore del Settore Proponente può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firmare, con firma elettronica leggera, il documento ed inviarlo al Dirigente per la successiva firm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inviare il documento al Dirigente senza apporre una firma indicando obbligatoriamente una motivazion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porlo in stato di attesa di una nuova versione (ristampa a seguito di modifiche sul Sistema Contabil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chiudere il processo del documento ed annullare il medesimo sul Sistema Contabile</a:t>
            </a: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Firma Liquidatore – Documento Firmato</a:t>
            </a: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5280" y="1676520"/>
            <a:ext cx="8280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8534160" cy="39625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 flipH="1">
            <a:off x="3886200" y="1752480"/>
            <a:ext cx="380880" cy="8384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Firma Dirig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5280" y="1557360"/>
            <a:ext cx="8280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838224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Firma Dirig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4920" y="1600200"/>
            <a:ext cx="828036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Il Direttore o il Dirigente Responsabile pu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firmare, con firma elettronica leggera, il documento ed inviarlo alla Ragioneria Delegata per le successive verifich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firmare, con firma elettronica leggera, il documento ed inviarlo direttamente alla Ragioneria Centrale (es. CO.CO.CO., stipendi) indicandone il tipo di pagament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richiedere al Settore Proponente la modifica (sul Sistema Contabile) del documento. È obbligatorio indicare la modifica richiest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chiudere il processo ed annullare il documento sul Sistema Contab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Visto Ragioneria Delegata</a:t>
            </a: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5280" y="155736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7848720" cy="351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Visto Ragioneria Delegata</a:t>
            </a: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5280" y="1557360"/>
            <a:ext cx="8443800" cy="511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In questa fase la Ragioneria Delegata pu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apporre il visto sul documento ed inviarlo alla Ragioneria Centrale Delegat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non apporre il visto ed inviarlo comunque alla Ragioneria Centrale, motivando le ragioni per la mancata apposizione del vist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richiedere al Settore Proponente la modifica del documento (da operarsi sul Sistema Contabil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richiedere l'integrazione delle informazioni present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richiedere l'integrazione della documentazione allegat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non apporre il visto (o visto negativo) e restituire il documento al Settore Proponente motivando le ragioni per il rifiuto del vist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modificare il documento sul Sistema Contab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Attività Ragioneria Centrale </a:t>
            </a: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95280" y="155736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8229600" cy="409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Attività Ragioneria Centrale</a:t>
            </a: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95280" y="1557360"/>
            <a:ext cx="8280360" cy="52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In questa fase la Ragioneria Centrale pu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procedere con il pagamento dell'atto di liquidazione (con la gestione dei mandati e delle liquidazioni sul Sistema Contabil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restituire il documento alla Ragioneria Delegata per la mancanza del vist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proporre al Dirigente della Ragioneria il rifiuto del document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richiedere al Settore Proponente la modifica del documento (da operarsi sul Sistema Contabil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richiedere l'integrazione di informazioni mancant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richiedere l'integrazione di documentazione allegata al document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Emissioni Mandati – Ragioneria Cent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95280" y="155736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8534160" cy="35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Emissione Mandati – Ragioneria Centrale </a:t>
            </a: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5280" y="1557360"/>
            <a:ext cx="8280360" cy="43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Durante questa fase la Ragioneria Centrale emette i mandati sul Sistema Contabile e pu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inviare il documento alla verifica dei mandati emessi (i mandati emessi sono trasmessi al sistema del MIF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inviare il documento alla Pre Archiviazion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richiedere l'integrazione di informazioni mancant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riportare il documento alla fase precedente (Attività Ragioneria) per poterlo rifiutare o richiederne delle modifiche</a:t>
            </a:r>
            <a:r>
              <a:rPr b="0" i="1" lang="it-IT" sz="24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Obiettivi del proget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0920" y="1557360"/>
            <a:ext cx="8494560" cy="49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286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Il progetto ha come obiettivo la </a:t>
            </a:r>
            <a:r>
              <a:rPr b="1" lang="it-IT" sz="2800" spc="-1" strike="noStrike">
                <a:solidFill>
                  <a:srgbClr val="000000"/>
                </a:solidFill>
                <a:latin typeface="Arial Narrow"/>
              </a:rPr>
              <a:t>dematerializzazione degli Atti di Liquidazione</a:t>
            </a: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 e degli Atti da Elenco della Regione Piemo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La soluzione consente la gestione del processo di </a:t>
            </a:r>
            <a:r>
              <a:rPr b="1" lang="it-IT" sz="2800" spc="-1" strike="noStrike">
                <a:solidFill>
                  <a:srgbClr val="000000"/>
                </a:solidFill>
                <a:latin typeface="Arial Narrow"/>
              </a:rPr>
              <a:t>validazione</a:t>
            </a: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it-IT" sz="2800" spc="-1" strike="noStrike">
                <a:solidFill>
                  <a:srgbClr val="000000"/>
                </a:solidFill>
                <a:latin typeface="Arial Narrow"/>
              </a:rPr>
              <a:t>trasmissione</a:t>
            </a: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it-IT" sz="2800" spc="-1" strike="noStrike">
                <a:solidFill>
                  <a:srgbClr val="000000"/>
                </a:solidFill>
                <a:latin typeface="Arial Narrow"/>
              </a:rPr>
              <a:t>ricezione</a:t>
            </a: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 e </a:t>
            </a:r>
            <a:r>
              <a:rPr b="1" lang="it-IT" sz="2800" spc="-1" strike="noStrike">
                <a:solidFill>
                  <a:srgbClr val="000000"/>
                </a:solidFill>
                <a:latin typeface="Arial Narrow"/>
              </a:rPr>
              <a:t>archiviazione</a:t>
            </a: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 da parte dei Settori Proponenti, delle Ragionerie Delegate e della Ragioneria Centra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Emissione Mandati – Ragioneria Centrale </a:t>
            </a: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5280" y="1557360"/>
            <a:ext cx="8280360" cy="23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E’ possibile visualizz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i mandati emess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le liquidazioni emes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80880" y="3581280"/>
            <a:ext cx="8077320" cy="206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Verifica Mandati – Ragioneria Centrale </a:t>
            </a: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5280" y="155736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8305560" cy="21333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304920" y="3886200"/>
            <a:ext cx="8229600" cy="21049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76320" y="4419720"/>
            <a:ext cx="304560" cy="152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75960" y="1905120"/>
            <a:ext cx="2286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6320" y="1905120"/>
            <a:ext cx="0" cy="25146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380880" y="6019920"/>
            <a:ext cx="8229600" cy="33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Verifica Mandati – Ragioneria Centrale </a:t>
            </a: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5280" y="1889280"/>
            <a:ext cx="8280360" cy="337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In questa fase gli addetti della Ragioneria Centrale abilitati alla verifica e archiviazione dei documenti posson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indicare i mandati verificati ed inviare il documento alla Pre Archiviazion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indicare i mandati verificati e restituire il documento alla Ragioneria Centrale per il completamento dell’emissione dei mandat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Pre Archiviazione - Archivista della Ragioneria Cent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5280" y="155736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792468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Pre Archiviazione - Archivista della Ragioneria Cent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95280" y="155736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80880" y="1676520"/>
            <a:ext cx="830592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L’archivista della Ragioneria Centrale pu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chiudere il processo ed archivi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Narrow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l’elenco dei mandati emess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Narrow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l’iter completo del docu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restituire il documento alla Ragioneria Centrale per il completamento dell’emissione dei mandat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Richiesta Modifiche al Settore Propon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5280" y="155736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8077320" cy="39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Richiesta Modifiche al Settore Propon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5280" y="155736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1828800"/>
            <a:ext cx="8001000" cy="39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Il Funzionario Liquidatore pu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porlo in stato di attesa di una nuova versione (ristampa a seguito di modifiche sul Sistema Contabil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chiudere il processo del documento ed annullare il medesimo sul Sistema Contabile</a:t>
            </a: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richiedere al proprio Direttore/Dirigente Responsabile l’invio del documento direttamente in Ragioneria Centrale. È obbligatorio indicarne la motivazi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Direttore/Dirigente Responsabile – Invio Diretto in Ragion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5280" y="155736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533520" y="2438280"/>
            <a:ext cx="807696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Direttore/Dirigente Responsabile – Invio Diretto in Ragion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95280" y="155736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" y="2209680"/>
            <a:ext cx="82296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Il Direttore/Dirigente Responsabile pu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firmare e completare la richiesta di invio del documento direttamente in Ragioneria Centrale ed inviarl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rifiutare la richiesta di invio del documento direttamente in Ragioneria Centrale e restituire il documento al Settore Propon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Integrazione Documentazione – Funzionario Liquida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95280" y="155736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815328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Obiettivi del proget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1557360"/>
            <a:ext cx="8494560" cy="49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286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La soluzione si affianca alla </a:t>
            </a:r>
            <a:r>
              <a:rPr b="1" lang="it-IT" sz="2800" spc="-1" strike="noStrike">
                <a:solidFill>
                  <a:srgbClr val="000000"/>
                </a:solidFill>
                <a:latin typeface="Arial Narrow"/>
              </a:rPr>
              <a:t>gestione contabile</a:t>
            </a: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 degli Atti di Liquidazione e da Elenco, e la completa dal punto di vista documentale, consentendo in una fase successiva, la possibile dismissione di funzionalità che oggi gestiscono l’iter dell’Atto di liquidazione sul sistema contabi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Il sistema consente la tracciatura di tutti i passi del processo di validazione e l’archiviazione del documento in apposito fascicolo elettro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Integrazione Documentazione – Funzionario Liquida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95280" y="155736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80880" y="1828800"/>
            <a:ext cx="8229600" cy="38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Il Funzionario Liquidatore pu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consegnare la documentazione richiesta e restituire il documento al richiedente (Ragioneria Delegata o Ragioneria Central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non consegnare la documentazione richiesta e restituire il documento al richiedente (Ragioneria Delegata o Ragioneria Centrale) indicando la motivazione per la non integrazione della documentazione</a:t>
            </a: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Integrazione Informazioni – Funzionario Liquida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5280" y="155736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83818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Integrazione Informazioni – Funzionario Liquida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95280" y="155736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0880" y="1828800"/>
            <a:ext cx="8229600" cy="38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Il Funzionario Liquidatore pu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integrare le informazioni richieste e restituire il documento al richiedente (Ragioneria Delegata o Ragioneria Central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non integrare le informazioni richieste e restituire il documento al richiedente (Ragioneria Delegata o Ragioneria Centrale) indicando la motivazione per la non integrazione delle informazioni</a:t>
            </a: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Notifica Rifiuto – Dirigente Ragioneria Cent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95280" y="155736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815328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Notifica Rifiuto – Dirigente Ragioneria Cent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95280" y="155736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80880" y="1828800"/>
            <a:ext cx="8229600" cy="42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Il Dirigente della Ragioneria Centrale pu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firmare, completare la richiesta di rifiuto che viene notificata, via @mail, al Dirigente/Direttore Responsabile ed al Funzionario Liquidatore; chiudere il processo e rifiutare il documento sul Sistema Contabil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respingere la richiesta di rifiuto e restituire il documento alla  Ragioneria Centrale</a:t>
            </a: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-3240" y="-28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457200" y="2276640"/>
            <a:ext cx="82296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5596"/>
                </a:solidFill>
                <a:latin typeface="Arial Narrow"/>
              </a:rPr>
              <a:t>Grazie per l’atten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68360" y="3068640"/>
            <a:ext cx="8229600" cy="30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1920" algn="r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31920" algn="r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5596"/>
                </a:solidFill>
                <a:latin typeface="Arial Narrow"/>
              </a:rPr>
              <a:t>M. Molino, I. Lusso, A. Marchis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31920" algn="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31920" algn="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5f5f5f"/>
                </a:solidFill>
                <a:latin typeface="Arial Narrow"/>
              </a:rPr>
              <a:t>Direzione Governo e Gesti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31920" algn="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5f5f5f"/>
                </a:solidFill>
                <a:latin typeface="Arial Narrow"/>
              </a:rPr>
              <a:t>Centro di competenza Bilancio e programm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3192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192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87440" y="6379920"/>
            <a:ext cx="33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4d4d4d"/>
                </a:solidFill>
                <a:latin typeface="Arial Narrow"/>
              </a:rPr>
              <a:t>© CSI-Piemonte – Tutti i diritti riserva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Percorso</a:t>
            </a:r>
            <a:r>
              <a:rPr b="0" lang="it-IT" sz="36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0920" y="1557360"/>
            <a:ext cx="8494560" cy="49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286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Il progetto si è sviluppato in diverse fas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 u="sng">
                <a:solidFill>
                  <a:srgbClr val="000000"/>
                </a:solidFill>
                <a:uFillTx/>
                <a:latin typeface="Arial Narrow"/>
              </a:rPr>
              <a:t>Analisi dei processi contabi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Questa fase ha consentito di analizzare l’attuale processo di liquidazione, di identificare attori e attività al fine di definire i requisiti  del nuovo processo e del nuovo sistem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 u="sng">
                <a:solidFill>
                  <a:srgbClr val="000000"/>
                </a:solidFill>
                <a:uFillTx/>
                <a:latin typeface="Arial Narrow"/>
              </a:rPr>
              <a:t>Analisi archivis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In questa fase sono stati affrontati gli aspetti archivistici necessari alla definizione della modalità di validazione, firma e archiviazione dei documenti in coerenza con il titolario dell’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286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Percors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 u="sng">
                <a:solidFill>
                  <a:srgbClr val="000000"/>
                </a:solidFill>
                <a:uFillTx/>
                <a:latin typeface="Arial Narrow"/>
              </a:rPr>
              <a:t>Interventi su sistema contab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Sul sistema contabile sono state realizzate funzionalità di integrazione con il sistema documentale al fine di trasmettere il documento PDF generato e i dati a corred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 u="sng">
                <a:solidFill>
                  <a:srgbClr val="000000"/>
                </a:solidFill>
                <a:uFillTx/>
                <a:latin typeface="Arial Narrow"/>
              </a:rPr>
              <a:t>Sviluppo di nuova applicazione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E’ stata sviluppata una nuova applicazione web integrata nel gestore di processi FLUX e con la piattaforma documentale ACTA, al fine di gestire tutte le fasi del processo di liquidazione, di ogni Atto, dalla validazione al pagamento, sino all’alimentazione del relativo fascicolo elettron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1557360"/>
            <a:ext cx="8494560" cy="49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286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Narrow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Percorso</a:t>
            </a: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835280" y="1052640"/>
            <a:ext cx="7056360" cy="50418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52360" y="1700280"/>
            <a:ext cx="154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Dall'attuale processo di liquidazion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Percorso</a:t>
            </a: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2360" y="1700280"/>
            <a:ext cx="165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…</a:t>
            </a: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al processo di validazione digit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050920" y="1044720"/>
            <a:ext cx="6408720" cy="536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Strumenti</a:t>
            </a: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1557360"/>
            <a:ext cx="849780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286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Il progetto utilizza i seguenti strument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-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 Narrow"/>
              </a:rPr>
              <a:t>Sistema di contabilità (Tarantella)</a:t>
            </a: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 gestione contabile e produzione documento Atto di liquidazione (e da elenco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-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 Narrow"/>
              </a:rPr>
              <a:t>FLUX</a:t>
            </a: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 piattaforma per la gestione dei process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9T11:18:52Z</dcterms:created>
  <dc:creator>franz goria</dc:creator>
  <dc:description/>
  <dc:language>en-US</dc:language>
  <cp:lastModifiedBy>CSI Piemonte</cp:lastModifiedBy>
  <dcterms:modified xsi:type="dcterms:W3CDTF">2011-11-21T10:39:13Z</dcterms:modified>
  <cp:revision>68</cp:revision>
  <dc:subject/>
  <dc:title>Titolo</dc:title>
</cp:coreProperties>
</file>