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320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2040" y="158400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240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320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2040" y="3991320"/>
            <a:ext cx="2732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86920" y="968040"/>
            <a:ext cx="8520120" cy="55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2080" y="399132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2080" y="1584000"/>
            <a:ext cx="41407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991320"/>
            <a:ext cx="84852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6920" y="968040"/>
            <a:ext cx="85201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4000" y="1584000"/>
            <a:ext cx="84852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252360" y="6411960"/>
            <a:ext cx="302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60360" y="395280"/>
            <a:ext cx="853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777777"/>
                </a:solidFill>
                <a:latin typeface="Arial Narrow"/>
              </a:rPr>
              <a:t>Dematerializzazione Atti di Liquid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956720" y="6411960"/>
            <a:ext cx="934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DA65C-A44E-4120-8616-80AFB03AF0FC}" type="slidenum">
              <a:rPr b="0" lang="it-IT" sz="1400" spc="-1" strike="noStrike">
                <a:solidFill>
                  <a:srgbClr val="4d4d4d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546200"/>
            <a:ext cx="821844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5596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1722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4d4d4d"/>
                </a:solidFill>
                <a:latin typeface="Arial Narrow"/>
              </a:rPr>
              <a:t>Torino, 24 Novembre/1-7 Dicembre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408720" y="504720"/>
            <a:ext cx="237492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4584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Dematerializzazione </a:t>
            </a:r>
            <a:br>
              <a:rPr sz="4500"/>
            </a:br>
            <a:r>
              <a:rPr b="0" lang="it-IT" sz="4500" spc="-1" strike="noStrike">
                <a:solidFill>
                  <a:srgbClr val="005596"/>
                </a:solidFill>
                <a:latin typeface="Arial Narrow"/>
              </a:rPr>
              <a:t>Atti di Liquidazione</a:t>
            </a:r>
            <a:endParaRPr b="0" lang="en-US" sz="4500" spc="-1" strike="noStrike">
              <a:solidFill>
                <a:srgbClr val="00559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06504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utomatizzazione processo di validazione e 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archiviazione degli Atti di Liquidazione</a:t>
            </a:r>
            <a:endParaRPr b="0" lang="en-US" sz="2800" spc="-1" strike="noStrike">
              <a:solidFill>
                <a:srgbClr val="5f5f5f"/>
              </a:solidFill>
              <a:latin typeface="Arial Narrow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50115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Nuova Applicazione Web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(integrata in FLUX)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di tutte le informazioni a corredo di ogni singola fase del processo, passaggio di stato dell'Atto di Liquidazione, integrazione con servizi ACTA, gestione delle firme e validazion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CTA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documentale per il deposito del documento nell’apposito fascicolo amministrativo contabile generato nel proce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ori coinvol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Gli attori coinvolti dalla nuova gestione dell'atto di liquidazione s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Liquidator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ettore/Dirigente Responsabile del Set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Deleg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Funzionario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Dirigente della Ragioneria Cent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Il nuovo process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Creazione dell’ Atto di Liquid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cesso di validazione, firma e archiviazi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rospet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295280"/>
            <a:ext cx="8280360" cy="41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a generazione dell’Atto avviene come di consueto attraverso le apposite funzioni del </a:t>
            </a: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sistema contabile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 Narrow"/>
              </a:rPr>
              <a:t>Nuove implementazioni su sistema contab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generazione e  trasferimento in formato .pdf dell’ Atto di Liquidazione al gestore del processo di validazione (con  versionamento del documen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roduzione casella “dati sensibili” per la corretta definizione della visibilità del documento dal sistema di archiviazione del documento (ACT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Creazione dell’Atto di Liquidazion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743120"/>
            <a:ext cx="2880000" cy="50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Una volta inserito l’Atto di liquidazione, accedendo in modifica al medesimo è possibile effettuare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l’avvio del processo di validazione (FLUX)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300" spc="-1" strike="noStrike">
                <a:solidFill>
                  <a:srgbClr val="000000"/>
                </a:solidFill>
                <a:latin typeface="Arial Narrow"/>
              </a:rPr>
              <a:t>il trasferimento e l’archiviazione del documento sul sistema di archiviazione (ACT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5761080" cy="4151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6227640" y="2994120"/>
            <a:ext cx="863640" cy="77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164360" y="2781360"/>
            <a:ext cx="72072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dei Processi (FLUX)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19280"/>
            <a:ext cx="8021520" cy="40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opo aver creato l'atto di liquidazione, l'utente accede al gestore dei processi per iniziare l’iter di valid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4830"/>
          <a:stretch/>
        </p:blipFill>
        <p:spPr>
          <a:xfrm>
            <a:off x="380880" y="2666880"/>
            <a:ext cx="8439120" cy="342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Gestione Attività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20120" cy="4572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38080" y="1905120"/>
            <a:ext cx="53352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2438280"/>
            <a:ext cx="304920" cy="152424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43000" y="3962520"/>
            <a:ext cx="304920" cy="2057400"/>
          </a:xfrm>
          <a:custGeom>
            <a:avLst/>
            <a:gdLst>
              <a:gd name="textAreaLeft" fmla="*/ 194760 w 304920"/>
              <a:gd name="textAreaRight" fmla="*/ 305280 w 3049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50"/>
                </a:lnTo>
                <a:cubicBezTo>
                  <a:pt x="10800" y="9150"/>
                  <a:pt x="5400" y="10050"/>
                  <a:pt x="0" y="10050"/>
                </a:cubicBezTo>
                <a:cubicBezTo>
                  <a:pt x="5400" y="10050"/>
                  <a:pt x="10800" y="10950"/>
                  <a:pt x="10800" y="118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1600200"/>
            <a:ext cx="1219320" cy="64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Riepilogo Dati 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 Narrow"/>
              </a:rPr>
              <a:t>Attività da svolgere sull’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Docum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il documento ed eventuali alleg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8153280" cy="28954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 flipH="1">
            <a:off x="1523520" y="2666880"/>
            <a:ext cx="30492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ualizzazione Iter Documen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1295280"/>
            <a:ext cx="828036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È possibile consultare l’iter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30592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2362320" y="3124080"/>
            <a:ext cx="30456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1547640"/>
            <a:ext cx="82296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900" spc="-1" strike="noStrike">
                <a:solidFill>
                  <a:srgbClr val="005596"/>
                </a:solidFill>
                <a:latin typeface="Arial Narrow"/>
              </a:rPr>
              <a:t>Generalità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7200"/>
            <a:ext cx="8291520" cy="35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Obiettivi de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Perco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5f5f5f"/>
                </a:solidFill>
                <a:latin typeface="Arial Narrow"/>
              </a:rPr>
              <a:t>Strum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2236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335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5169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389560" y="3048120"/>
            <a:ext cx="3308400" cy="1440"/>
          </a:xfrm>
          <a:prstGeom prst="line">
            <a:avLst/>
          </a:prstGeom>
          <a:ln w="10800">
            <a:solidFill>
              <a:srgbClr val="cc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7236000" y="179280"/>
            <a:ext cx="1706400" cy="6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676520"/>
            <a:ext cx="8280360" cy="51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del Settore Proponente può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 Dirigente per la successiva fir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 Dirigente senza apporre una firma indicando obbligatoriamente una motiv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Liquidatore – Documento Firmat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167652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3416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 flipH="1">
            <a:off x="3886200" y="1752480"/>
            <a:ext cx="380880" cy="838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1557360"/>
            <a:ext cx="828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382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Firma Dirig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600200"/>
            <a:ext cx="8280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 o il 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alla Ragioneria Delegata per le successive verifi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n firma elettronica leggera, il documento ed inviarlo direttamente alla Ragioneria Centrale (es. CO.CO.CO., stipendi) indicandone il tipo di paga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(sul Sistema Contabile) del documento. È obbligatorio indicare la modifica richies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nnull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848720" cy="35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isto Ragioneria Delegata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1557360"/>
            <a:ext cx="8443800" cy="51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Delegata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pporre il visto sul documento ed inviarlo alla Ragioneria Centrale De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ed inviarlo comunque alla Ragioneria Centrale, motivando le ragioni per la mancata apposizione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e informazioni prese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ella documentazione allega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apporre il visto (o visto negativo) e restituire il documento al Settore Proponente motivando le ragioni per il rifiuto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modificare il documento sul Sistema Conta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229600" cy="409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Attività Ragioneria Centrale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1557360"/>
            <a:ext cx="8280360" cy="52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cedere con il pagamento dell'atto di liquidazione (con la gestione dei mandati e delle liquidazion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Delegata per la mancanza del vis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roporre al Dirigente della Ragioneria il rifiuto de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Settore Proponente la modifica del documento (da operarsi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documentazione allegata al docu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i Mandati –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5341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1557360"/>
            <a:ext cx="8280360" cy="43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urante questa fase la Ragioneria Centrale emette i mandati sul Sistema Contabile 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verifica dei mandati emessi (i mandati emessi sono trasmessi al sistema del MI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l'integrazione di informazioni mancan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portare il documento alla fase precedente (Attività Ragioneria) per poterlo rifiutare o richiederne delle modifiche</a:t>
            </a:r>
            <a:r>
              <a:rPr b="0" i="1" lang="it-IT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ha come obiettivo 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dematerializzazione degli Atti di Liqu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degli Atti da Elenco della Regione Piemo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consente la gestione del processo di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valid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trasmiss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rice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e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archivi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a parte dei Settori Proponenti, delle Ragionerie Delegate e della Ragioneria Cent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Emissione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5280" y="1557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E’ possibile visualizz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e liquidazioni emes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3581280"/>
            <a:ext cx="8077320" cy="20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305560" cy="2133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3886200"/>
            <a:ext cx="8229600" cy="21049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6320" y="4419720"/>
            <a:ext cx="304560" cy="152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75960" y="1905120"/>
            <a:ext cx="2286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1905120"/>
            <a:ext cx="0" cy="2514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80880" y="6019920"/>
            <a:ext cx="8229600" cy="33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Verifica Mandati – Ragioneria Centrale 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95280" y="1889280"/>
            <a:ext cx="8280360" cy="337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 questa fase gli addetti della Ragioneria Centrale abilitati alla verifica e archiviazione dei documenti pos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d inviare il documento alla Pre Archiviazi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dicare i mandati verificati e 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79246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re Archiviazione - Archivista della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676520"/>
            <a:ext cx="83059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L’archivista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ed archivi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elenco dei mandati emess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l’iter completo del docu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tituire il documento alla Ragioneria Centrale per il completamento dell’emissione dei manda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07732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Richiesta Modifiche al Settore Propo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001000" cy="39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porlo in stato di attesa di una nuova versione (ristampa a seguito di modifiche sul Sistema Contabi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hiudere il processo del documento ed annullare il medesimo sul Sistema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chiedere al proprio Direttore/Dirigente Responsabile l’invio del documento direttamente in Ragioneria Centrale. È obbligatorio indicarne la motiv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Direttore/Dirigente Responsabile – Invio Diretto in Ragion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209680"/>
            <a:ext cx="8229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ettore/Dirigente Responsabi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 e completare la richiesta di invio del documento direttamente in Ragioneria Centrale ed inviar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ifiutare la richiesta di invio del documento direttamente in Ragioneria Centrale e restituire il documento al Settore Propon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Obiettiv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La soluzione si affianca alla </a:t>
            </a: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gestione contabi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degli Atti di Liquidazione e da Elenco, e la completa dal punto di vista documentale, consentendo in una fase successiva, la possibile dismissione di funzionalità che oggi gestiscono l’iter dell’Atto di liquidazione sul sistema contab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sistema consente la tracciatura di tutti i passi del processo di validazione e l’archiviazione del documento in apposito fascicolo elettr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Documentazione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consegnare la documentazione richiesta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consegnare la documentazione richiesta e restituire il documento al richiedente (Ragioneria Delegata o Ragioneria Centrale) indicando la motivazione per la non integrazione della documentazion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Integrazione Informazioni – Funzionario Liquid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1828800"/>
            <a:ext cx="8229600" cy="38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Funzionario Liquidator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ntegrare le informazioni richieste e restituire il documento al richiedente (Ragioneria Delegata o Ragioneria Central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non integrare le informazioni richieste e restituire il documento al richiedente (Ragioneria Delegata o Ragioneria Centrale) indicando la motivazione per la non integrazione delle informazioni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5328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Notifica Rifiuto – Dirigente Ragioneria Cent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1557360"/>
            <a:ext cx="82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1828800"/>
            <a:ext cx="822960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Il Dirigente della Ragioneria Centrale pu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firmare, completare la richiesta di rifiuto che viene notificata, via @mail, al Dirigente/Direttore Responsabile ed al Funzionario Liquidatore; chiudere il processo e rifiutare il documento sul Sistema Contabi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respingere la richiesta di rifiuto e restituire il documento alla  Ragioneria Centrale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-3240" y="-28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" y="22766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5596"/>
                </a:solidFill>
                <a:latin typeface="Arial Narrow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3068640"/>
            <a:ext cx="822960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5596"/>
                </a:solidFill>
                <a:latin typeface="Arial Narrow"/>
              </a:rPr>
              <a:t>M. Molino, I. Lusso, A. Marchi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Direzione Governo e Gest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5f5f5f"/>
                </a:solidFill>
                <a:latin typeface="Arial Narrow"/>
              </a:rPr>
              <a:t>Centro di competenza Bilancio e program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3192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7440" y="6379920"/>
            <a:ext cx="33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4d4d4d"/>
                </a:solidFill>
                <a:latin typeface="Arial Narrow"/>
              </a:rPr>
              <a:t>© CSI-Piemonte – Tutti i diritti riserv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r>
              <a:rPr b="0" lang="it-IT" sz="36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si è sviluppato in diverse fa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dei processi conta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Questa fase ha consentito di analizzare l’attuale processo di liquidazione, di identificare attori e attività al fine di definire i requisiti  del nuovo processo e del nuov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Analisi archivis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n questa fase sono stati affrontati gli aspetti archivistici necessari alla definizione della modalità di validazione, firma e archiviazione dei documenti in coerenza con il titolario dell’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Interventi su sistema cont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Sul sistema contabile sono state realizzate funzionalità di integrazione con il sistema documentale al fine di trasmettere il documento PDF generato e i dati a corred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Arial Narrow"/>
              </a:rPr>
              <a:t>Sviluppo di nuova applicazione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E’ stata sviluppata una nuova applicazione web integrata nel gestore di processi FLUX e con la piattaforma documentale ACTA, al fine di gestire tutte le fasi del processo di liquidazione, di ogni Atto, dalla validazione al pagamento, sino all’alimentazione del relativo fascicolo elettron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1557360"/>
            <a:ext cx="84945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7056360" cy="50418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2360" y="1700280"/>
            <a:ext cx="15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Dall'attuale processo di liquidazione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Percorso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2360" y="1700280"/>
            <a:ext cx="165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 Narrow"/>
              </a:rPr>
              <a:t>al processo di validazione digi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44720"/>
            <a:ext cx="6408720" cy="53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7280" y="968400"/>
            <a:ext cx="8534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Strumenti</a:t>
            </a:r>
            <a:br>
              <a:rPr sz="3200"/>
            </a:br>
            <a:r>
              <a:rPr b="0" lang="it-IT" sz="3200" spc="-1" strike="noStrike">
                <a:solidFill>
                  <a:srgbClr val="005596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55736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Il progetto utilizza i seguenti strume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Sistema di contabilità (Tarantella)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gestione contabile e produzione documento Atto di liquidazione (e da elenc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 Narrow"/>
              </a:rPr>
              <a:t>FLUX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 Narrow"/>
              </a:rPr>
              <a:t> piattaforma per la gestione dei proces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28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9T11:18:52Z</dcterms:created>
  <dc:creator>franz goria</dc:creator>
  <dc:description/>
  <dc:language>en-US</dc:language>
  <cp:lastModifiedBy>CSI Piemonte</cp:lastModifiedBy>
  <dcterms:modified xsi:type="dcterms:W3CDTF">2011-11-21T10:39:13Z</dcterms:modified>
  <cp:revision>68</cp:revision>
  <dc:subject/>
  <dc:title>Titolo</dc:title>
</cp:coreProperties>
</file>